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C31-71EA-4794-AEC1-D856E714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144-1B73-4257-9AB8-7D616999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216-9EAF-4F95-BBAA-BD996ECC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D663-1B66-458A-AF78-4F7FDCE0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AFC5-0D4C-4631-9F50-EDD228BE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805A-D4DA-4F92-BD13-15BEEB4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35E5-8EE3-40DD-8C00-67D3F40A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23C9-5CE1-4670-901B-65BB9AB7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BA17-909A-4D0C-A07F-AD42A32A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6A12-C420-4241-A7EE-B3074FC1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4B1D-6906-4D07-9AA0-7BAA0BD5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AF7-BD20-4890-BA10-C9B43AA8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7604-EBB6-4D1C-95EE-29620D9F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7F5E-26F0-4849-93A7-F9B6C8E4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6CC7-9B0E-4DA3-81FD-1E9B399D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90D7-2EB1-4078-9089-C34DF074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63C6-08CD-4127-B758-2E98E9FC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36D-355D-4E23-9429-F6E10C96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ADD-63A5-460C-95CB-CE3AAAF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E7E-6410-4C8D-B0DA-704E716B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6F7-EB42-4FDC-9E69-201881F8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833-6D97-41A9-8B27-DA7207AA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6EB-1B1E-488E-BEB4-5A9FEEF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96B-D14E-4574-B19F-FB93C898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F973-3DAB-4B59-BB47-F1AFD569A3C2}" type="slidenum"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2934-5A90-44A8-B1E5-623394C2221F}" type="slidenum">
              <a:rPr b="0" lang="fi-FI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Impact"/>
              </a:rPr>
              <a:t>TIETOTEKNIIKAN KURSSIT 2001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05160" y="2227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Impact"/>
              </a:rPr>
              <a:t>Muut tietotekniikan kurssi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Impact"/>
              </a:rPr>
              <a:t>Tietotekniikan alkeiskurss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Impact"/>
              </a:rPr>
              <a:t>Tietotekniikan peruskurss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Impact"/>
              </a:rPr>
              <a:t>Tietotekniikan jatkokurss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Impact"/>
              </a:rPr>
              <a:t>Atk-englannin peruskurss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Impact"/>
              </a:rPr>
              <a:t>Ammattiosaston mikrotukikurss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2640" y="2227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Tietokoneen A-kortti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Tietotekniikan merkitys ja laitteisto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Laitteen käyttö ja tiedon hallin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Tekstinkäsitte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Taulukkolasken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Tietokantaohjelman käyttö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itysgrafiikkaohjelman käyttö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7:54:25Z</dcterms:created>
  <dc:creator>atk</dc:creator>
  <dc:description/>
  <dc:language>en-US</dc:language>
  <cp:lastModifiedBy>Kurssi</cp:lastModifiedBy>
  <dcterms:modified xsi:type="dcterms:W3CDTF">2003-02-17T11:16:30Z</dcterms:modified>
  <cp:revision>4</cp:revision>
  <dc:subject/>
  <dc:title>TIETOTEKNIIKAN KURSSIT 2001</dc:title>
</cp:coreProperties>
</file>